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9.gif" ContentType="image/gif"/>
  <Override PartName="/ppt/media/image14.gif" ContentType="image/gif"/>
  <Override PartName="/ppt/media/image1.gif" ContentType="image/gif"/>
  <Override PartName="/ppt/media/image2.gif" ContentType="image/gif"/>
  <Override PartName="/ppt/media/image4.gif" ContentType="image/gif"/>
  <Override PartName="/ppt/media/image6.gif" ContentType="image/gif"/>
  <Override PartName="/ppt/media/image11.gif" ContentType="image/gif"/>
  <Override PartName="/ppt/media/image5.jpeg" ContentType="image/jpeg"/>
  <Override PartName="/ppt/media/image7.gif" ContentType="image/gif"/>
  <Override PartName="/ppt/media/image13.gif" ContentType="image/gif"/>
  <Override PartName="/ppt/media/image16.png" ContentType="image/png"/>
  <Override PartName="/ppt/media/image15.png" ContentType="image/png"/>
  <Override PartName="/ppt/media/image12.gif" ContentType="image/gif"/>
  <Override PartName="/ppt/media/image3.jpeg" ContentType="image/jpeg"/>
  <Override PartName="/ppt/media/image8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A997-1C98-4CF3-9A2B-D078CBDE5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0784-3713-4A72-B9E7-423908B21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1C4F-765F-4716-9CE1-69D0E0E1D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EE85-78FB-4416-ADB6-9BD6B46F9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7223-7226-450B-8A37-8D69B238A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E760-041E-47D2-BD78-CE8D49D50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6C68-10C6-4929-98FD-874E67500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85DB-45C0-4E26-9CD3-794420828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F4D7-2464-4E81-9D2F-69923129D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EC9F-38BF-45E9-98B0-8BA0759C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AD7B-780D-4105-B503-6CBA3ED4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EDE2-14FC-46E2-82B5-A2D9CED1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AE1AB-8023-4E94-BA17-0F550ED15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12.gif"/><Relationship Id="rId3" Type="http://schemas.openxmlformats.org/officeDocument/2006/relationships/image" Target="../media/image6.gif"/><Relationship Id="rId4" Type="http://schemas.openxmlformats.org/officeDocument/2006/relationships/image" Target="../media/image5.jpeg"/><Relationship Id="rId5" Type="http://schemas.openxmlformats.org/officeDocument/2006/relationships/image" Target="../media/image4.gif"/><Relationship Id="rId6" Type="http://schemas.openxmlformats.org/officeDocument/2006/relationships/image" Target="../media/image3.jpeg"/><Relationship Id="rId7" Type="http://schemas.openxmlformats.org/officeDocument/2006/relationships/image" Target="../media/image13.gif"/><Relationship Id="rId8" Type="http://schemas.openxmlformats.org/officeDocument/2006/relationships/image" Target="../media/image14.gif"/><Relationship Id="rId9" Type="http://schemas.openxmlformats.org/officeDocument/2006/relationships/image" Target="../media/image2.gif"/><Relationship Id="rId10" Type="http://schemas.openxmlformats.org/officeDocument/2006/relationships/image" Target="../media/image1.gif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12.gif"/><Relationship Id="rId3" Type="http://schemas.openxmlformats.org/officeDocument/2006/relationships/image" Target="../media/image6.gif"/><Relationship Id="rId4" Type="http://schemas.openxmlformats.org/officeDocument/2006/relationships/image" Target="../media/image5.jpeg"/><Relationship Id="rId5" Type="http://schemas.openxmlformats.org/officeDocument/2006/relationships/image" Target="../media/image4.gif"/><Relationship Id="rId6" Type="http://schemas.openxmlformats.org/officeDocument/2006/relationships/image" Target="../media/image3.jpeg"/><Relationship Id="rId7" Type="http://schemas.openxmlformats.org/officeDocument/2006/relationships/image" Target="../media/image13.gif"/><Relationship Id="rId8" Type="http://schemas.openxmlformats.org/officeDocument/2006/relationships/image" Target="../media/image14.gif"/><Relationship Id="rId9" Type="http://schemas.openxmlformats.org/officeDocument/2006/relationships/image" Target="../media/image2.gif"/><Relationship Id="rId10" Type="http://schemas.openxmlformats.org/officeDocument/2006/relationships/image" Target="../media/image1.gif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12.gif"/><Relationship Id="rId3" Type="http://schemas.openxmlformats.org/officeDocument/2006/relationships/image" Target="../media/image6.gif"/><Relationship Id="rId4" Type="http://schemas.openxmlformats.org/officeDocument/2006/relationships/image" Target="../media/image5.jpeg"/><Relationship Id="rId5" Type="http://schemas.openxmlformats.org/officeDocument/2006/relationships/image" Target="../media/image4.gif"/><Relationship Id="rId6" Type="http://schemas.openxmlformats.org/officeDocument/2006/relationships/image" Target="../media/image3.jpeg"/><Relationship Id="rId7" Type="http://schemas.openxmlformats.org/officeDocument/2006/relationships/image" Target="../media/image13.gif"/><Relationship Id="rId8" Type="http://schemas.openxmlformats.org/officeDocument/2006/relationships/image" Target="../media/image14.gif"/><Relationship Id="rId9" Type="http://schemas.openxmlformats.org/officeDocument/2006/relationships/image" Target="../media/image2.gif"/><Relationship Id="rId10" Type="http://schemas.openxmlformats.org/officeDocument/2006/relationships/image" Target="../media/image1.gif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12.gif"/><Relationship Id="rId3" Type="http://schemas.openxmlformats.org/officeDocument/2006/relationships/image" Target="../media/image6.gif"/><Relationship Id="rId4" Type="http://schemas.openxmlformats.org/officeDocument/2006/relationships/image" Target="../media/image5.jpeg"/><Relationship Id="rId5" Type="http://schemas.openxmlformats.org/officeDocument/2006/relationships/image" Target="../media/image4.gif"/><Relationship Id="rId6" Type="http://schemas.openxmlformats.org/officeDocument/2006/relationships/image" Target="../media/image3.jpeg"/><Relationship Id="rId7" Type="http://schemas.openxmlformats.org/officeDocument/2006/relationships/image" Target="../media/image13.gif"/><Relationship Id="rId8" Type="http://schemas.openxmlformats.org/officeDocument/2006/relationships/image" Target="../media/image14.gif"/><Relationship Id="rId9" Type="http://schemas.openxmlformats.org/officeDocument/2006/relationships/image" Target="../media/image2.gif"/><Relationship Id="rId10" Type="http://schemas.openxmlformats.org/officeDocument/2006/relationships/image" Target="../media/image1.gif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12.gif"/><Relationship Id="rId3" Type="http://schemas.openxmlformats.org/officeDocument/2006/relationships/image" Target="../media/image6.gif"/><Relationship Id="rId4" Type="http://schemas.openxmlformats.org/officeDocument/2006/relationships/image" Target="../media/image5.jpeg"/><Relationship Id="rId5" Type="http://schemas.openxmlformats.org/officeDocument/2006/relationships/image" Target="../media/image4.gif"/><Relationship Id="rId6" Type="http://schemas.openxmlformats.org/officeDocument/2006/relationships/image" Target="../media/image3.jpeg"/><Relationship Id="rId7" Type="http://schemas.openxmlformats.org/officeDocument/2006/relationships/image" Target="../media/image13.gif"/><Relationship Id="rId8" Type="http://schemas.openxmlformats.org/officeDocument/2006/relationships/image" Target="../media/image14.gif"/><Relationship Id="rId9" Type="http://schemas.openxmlformats.org/officeDocument/2006/relationships/image" Target="../media/image2.gif"/><Relationship Id="rId10" Type="http://schemas.openxmlformats.org/officeDocument/2006/relationships/image" Target="../media/image1.gif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12.gif"/><Relationship Id="rId3" Type="http://schemas.openxmlformats.org/officeDocument/2006/relationships/image" Target="../media/image6.gif"/><Relationship Id="rId4" Type="http://schemas.openxmlformats.org/officeDocument/2006/relationships/image" Target="../media/image5.jpeg"/><Relationship Id="rId5" Type="http://schemas.openxmlformats.org/officeDocument/2006/relationships/image" Target="../media/image4.gif"/><Relationship Id="rId6" Type="http://schemas.openxmlformats.org/officeDocument/2006/relationships/image" Target="../media/image3.jpeg"/><Relationship Id="rId7" Type="http://schemas.openxmlformats.org/officeDocument/2006/relationships/image" Target="../media/image13.gif"/><Relationship Id="rId8" Type="http://schemas.openxmlformats.org/officeDocument/2006/relationships/image" Target="../media/image14.gif"/><Relationship Id="rId9" Type="http://schemas.openxmlformats.org/officeDocument/2006/relationships/image" Target="../media/image2.gif"/><Relationship Id="rId10" Type="http://schemas.openxmlformats.org/officeDocument/2006/relationships/image" Target="../media/image1.gif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12.gif"/><Relationship Id="rId3" Type="http://schemas.openxmlformats.org/officeDocument/2006/relationships/image" Target="../media/image6.gif"/><Relationship Id="rId4" Type="http://schemas.openxmlformats.org/officeDocument/2006/relationships/image" Target="../media/image5.jpeg"/><Relationship Id="rId5" Type="http://schemas.openxmlformats.org/officeDocument/2006/relationships/image" Target="../media/image4.gif"/><Relationship Id="rId6" Type="http://schemas.openxmlformats.org/officeDocument/2006/relationships/image" Target="../media/image3.jpeg"/><Relationship Id="rId7" Type="http://schemas.openxmlformats.org/officeDocument/2006/relationships/image" Target="../media/image13.gif"/><Relationship Id="rId8" Type="http://schemas.openxmlformats.org/officeDocument/2006/relationships/image" Target="../media/image14.gif"/><Relationship Id="rId9" Type="http://schemas.openxmlformats.org/officeDocument/2006/relationships/image" Target="../media/image2.gif"/><Relationship Id="rId10" Type="http://schemas.openxmlformats.org/officeDocument/2006/relationships/image" Target="../media/image1.gif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12.gif"/><Relationship Id="rId3" Type="http://schemas.openxmlformats.org/officeDocument/2006/relationships/image" Target="../media/image6.gif"/><Relationship Id="rId4" Type="http://schemas.openxmlformats.org/officeDocument/2006/relationships/image" Target="../media/image5.jpeg"/><Relationship Id="rId5" Type="http://schemas.openxmlformats.org/officeDocument/2006/relationships/image" Target="../media/image4.gif"/><Relationship Id="rId6" Type="http://schemas.openxmlformats.org/officeDocument/2006/relationships/image" Target="../media/image3.jpeg"/><Relationship Id="rId7" Type="http://schemas.openxmlformats.org/officeDocument/2006/relationships/image" Target="../media/image13.gif"/><Relationship Id="rId8" Type="http://schemas.openxmlformats.org/officeDocument/2006/relationships/image" Target="../media/image14.gif"/><Relationship Id="rId9" Type="http://schemas.openxmlformats.org/officeDocument/2006/relationships/image" Target="../media/image2.gif"/><Relationship Id="rId10" Type="http://schemas.openxmlformats.org/officeDocument/2006/relationships/image" Target="../media/image1.gif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12.gif"/><Relationship Id="rId3" Type="http://schemas.openxmlformats.org/officeDocument/2006/relationships/image" Target="../media/image6.gif"/><Relationship Id="rId4" Type="http://schemas.openxmlformats.org/officeDocument/2006/relationships/image" Target="../media/image5.jpeg"/><Relationship Id="rId5" Type="http://schemas.openxmlformats.org/officeDocument/2006/relationships/image" Target="../media/image4.gif"/><Relationship Id="rId6" Type="http://schemas.openxmlformats.org/officeDocument/2006/relationships/image" Target="../media/image3.jpeg"/><Relationship Id="rId7" Type="http://schemas.openxmlformats.org/officeDocument/2006/relationships/image" Target="../media/image13.gif"/><Relationship Id="rId8" Type="http://schemas.openxmlformats.org/officeDocument/2006/relationships/image" Target="../media/image14.gif"/><Relationship Id="rId9" Type="http://schemas.openxmlformats.org/officeDocument/2006/relationships/image" Target="../media/image2.gif"/><Relationship Id="rId10" Type="http://schemas.openxmlformats.org/officeDocument/2006/relationships/image" Target="../media/image1.gif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59280" y="2565360"/>
            <a:ext cx="2597040" cy="3933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771640" y="76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99"/>
                </a:solidFill>
                <a:latin typeface="Comic Sans MS"/>
              </a:rPr>
              <a:t>El le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771640" y="76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99"/>
                </a:solidFill>
                <a:latin typeface="Comic Sans MS"/>
              </a:rPr>
              <a:t>El perr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627280" y="2492280"/>
            <a:ext cx="324000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771640" y="76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99"/>
                </a:solidFill>
                <a:latin typeface="Comic Sans MS"/>
              </a:rPr>
              <a:t>El ga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995640" y="2781360"/>
            <a:ext cx="2951280" cy="25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916360" y="404640"/>
            <a:ext cx="1352520" cy="1413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11280" y="549360"/>
            <a:ext cx="1278000" cy="1512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5148360" y="189000"/>
            <a:ext cx="2611440" cy="1258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755640" y="2708280"/>
            <a:ext cx="1155600" cy="1444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2771640" y="2708280"/>
            <a:ext cx="1576440" cy="1292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7236000" y="2349360"/>
            <a:ext cx="1649160" cy="1649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250920" y="4653000"/>
            <a:ext cx="2300040" cy="1533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8"/>
          <a:stretch/>
        </p:blipFill>
        <p:spPr>
          <a:xfrm>
            <a:off x="5219640" y="4797360"/>
            <a:ext cx="1441440" cy="1441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9"/>
          <a:stretch/>
        </p:blipFill>
        <p:spPr>
          <a:xfrm>
            <a:off x="3059280" y="4581360"/>
            <a:ext cx="1434960" cy="14353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0"/>
          <a:stretch/>
        </p:blipFill>
        <p:spPr>
          <a:xfrm>
            <a:off x="5292720" y="2276640"/>
            <a:ext cx="1362240" cy="2062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1"/>
          <a:stretch/>
        </p:blipFill>
        <p:spPr>
          <a:xfrm>
            <a:off x="7667640" y="4581360"/>
            <a:ext cx="952560" cy="14241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84360" y="19890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la tort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1520" y="199404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la gal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652000" y="156204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Comic Sans MS"/>
              </a:rPr>
              <a:t>el pája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1840" y="4076640"/>
            <a:ext cx="103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Comic Sans MS"/>
              </a:rPr>
              <a:t>el bur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31120" y="393372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Comic Sans MS"/>
              </a:rPr>
              <a:t>el elef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564160" y="436572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Comic Sans MS"/>
              </a:rPr>
              <a:t>el le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515360" y="378936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Comic Sans MS"/>
              </a:rPr>
              <a:t>el cuc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2360" y="5877000"/>
            <a:ext cx="80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Comic Sans MS"/>
              </a:rPr>
              <a:t>el p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60520" y="59500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Comic Sans MS"/>
              </a:rPr>
              <a:t>el ga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34120" y="587700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Comic Sans MS"/>
              </a:rPr>
              <a:t>el cang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78920" y="602136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Comic Sans MS"/>
              </a:rPr>
              <a:t>el cis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916360" y="404640"/>
            <a:ext cx="1352520" cy="1413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11280" y="549360"/>
            <a:ext cx="1278000" cy="1512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148360" y="189000"/>
            <a:ext cx="2611440" cy="1258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755640" y="2708280"/>
            <a:ext cx="1155600" cy="1444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2771640" y="2708280"/>
            <a:ext cx="1576440" cy="12924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308720" y="2637000"/>
            <a:ext cx="1649520" cy="16491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7"/>
          <a:stretch/>
        </p:blipFill>
        <p:spPr>
          <a:xfrm>
            <a:off x="250920" y="4653000"/>
            <a:ext cx="2300040" cy="15336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8"/>
          <a:stretch/>
        </p:blipFill>
        <p:spPr>
          <a:xfrm>
            <a:off x="5219640" y="4797360"/>
            <a:ext cx="1441440" cy="14414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9"/>
          <a:stretch/>
        </p:blipFill>
        <p:spPr>
          <a:xfrm>
            <a:off x="3059280" y="4581360"/>
            <a:ext cx="1434960" cy="1435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0"/>
          <a:stretch/>
        </p:blipFill>
        <p:spPr>
          <a:xfrm>
            <a:off x="5292720" y="2276640"/>
            <a:ext cx="1362240" cy="20620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1"/>
          <a:stretch/>
        </p:blipFill>
        <p:spPr>
          <a:xfrm>
            <a:off x="7667640" y="4581360"/>
            <a:ext cx="952560" cy="14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916360" y="404640"/>
            <a:ext cx="1352520" cy="1413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11280" y="549360"/>
            <a:ext cx="1278000" cy="1512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076720" y="476280"/>
            <a:ext cx="2611440" cy="1258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755640" y="2708280"/>
            <a:ext cx="1155600" cy="1444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2771640" y="2708280"/>
            <a:ext cx="1576440" cy="12924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7308720" y="2637000"/>
            <a:ext cx="1649520" cy="16491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7"/>
          <a:stretch/>
        </p:blipFill>
        <p:spPr>
          <a:xfrm>
            <a:off x="250920" y="4653000"/>
            <a:ext cx="2300040" cy="15336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8"/>
          <a:stretch/>
        </p:blipFill>
        <p:spPr>
          <a:xfrm>
            <a:off x="5219640" y="4797360"/>
            <a:ext cx="1441440" cy="1441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9"/>
          <a:stretch/>
        </p:blipFill>
        <p:spPr>
          <a:xfrm>
            <a:off x="3059280" y="4581360"/>
            <a:ext cx="1434960" cy="14353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0"/>
          <a:stretch/>
        </p:blipFill>
        <p:spPr>
          <a:xfrm>
            <a:off x="5292720" y="2276640"/>
            <a:ext cx="1362240" cy="2062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1"/>
          <a:stretch/>
        </p:blipFill>
        <p:spPr>
          <a:xfrm>
            <a:off x="7667640" y="4581360"/>
            <a:ext cx="952560" cy="14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916360" y="404640"/>
            <a:ext cx="1352520" cy="1413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11280" y="549360"/>
            <a:ext cx="1278000" cy="1512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39640" y="4724280"/>
            <a:ext cx="2611440" cy="1258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755640" y="2708280"/>
            <a:ext cx="1155600" cy="1444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2771640" y="2708280"/>
            <a:ext cx="1576440" cy="12924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7308720" y="2637000"/>
            <a:ext cx="1649520" cy="16491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7"/>
          <a:stretch/>
        </p:blipFill>
        <p:spPr>
          <a:xfrm>
            <a:off x="6843600" y="765000"/>
            <a:ext cx="2300400" cy="15336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8"/>
          <a:stretch/>
        </p:blipFill>
        <p:spPr>
          <a:xfrm>
            <a:off x="4932360" y="476280"/>
            <a:ext cx="1441440" cy="14414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9"/>
          <a:stretch/>
        </p:blipFill>
        <p:spPr>
          <a:xfrm>
            <a:off x="3059280" y="4581360"/>
            <a:ext cx="1434960" cy="14353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0"/>
          <a:stretch/>
        </p:blipFill>
        <p:spPr>
          <a:xfrm>
            <a:off x="5292720" y="2276640"/>
            <a:ext cx="1362240" cy="20620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1"/>
          <a:stretch/>
        </p:blipFill>
        <p:spPr>
          <a:xfrm>
            <a:off x="7667640" y="4581360"/>
            <a:ext cx="952560" cy="14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916360" y="404640"/>
            <a:ext cx="1352520" cy="1413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11280" y="549360"/>
            <a:ext cx="1278000" cy="1512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5076720" y="476280"/>
            <a:ext cx="2611440" cy="12589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5508720" y="4508640"/>
            <a:ext cx="1155600" cy="14443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2771640" y="2708280"/>
            <a:ext cx="1576440" cy="12924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7308720" y="2637000"/>
            <a:ext cx="1649520" cy="16491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7"/>
          <a:stretch/>
        </p:blipFill>
        <p:spPr>
          <a:xfrm>
            <a:off x="250920" y="4653000"/>
            <a:ext cx="2300040" cy="15336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8"/>
          <a:stretch/>
        </p:blipFill>
        <p:spPr>
          <a:xfrm>
            <a:off x="7451640" y="476280"/>
            <a:ext cx="1441440" cy="1441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9"/>
          <a:stretch/>
        </p:blipFill>
        <p:spPr>
          <a:xfrm>
            <a:off x="5435640" y="2133720"/>
            <a:ext cx="1434960" cy="14349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0"/>
          <a:stretch/>
        </p:blipFill>
        <p:spPr>
          <a:xfrm>
            <a:off x="2916360" y="4149720"/>
            <a:ext cx="1361880" cy="20620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1"/>
          <a:stretch/>
        </p:blipFill>
        <p:spPr>
          <a:xfrm>
            <a:off x="7667640" y="4581360"/>
            <a:ext cx="952560" cy="14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916360" y="404640"/>
            <a:ext cx="1352520" cy="1413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971640" y="4508640"/>
            <a:ext cx="1278000" cy="1512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2627280" y="4653000"/>
            <a:ext cx="2611440" cy="12589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971640" y="2492280"/>
            <a:ext cx="1155600" cy="14446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2771640" y="2708280"/>
            <a:ext cx="1576440" cy="12924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7308720" y="2637000"/>
            <a:ext cx="1649520" cy="16491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7"/>
          <a:stretch/>
        </p:blipFill>
        <p:spPr>
          <a:xfrm>
            <a:off x="0" y="620640"/>
            <a:ext cx="2300400" cy="15336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8"/>
          <a:stretch/>
        </p:blipFill>
        <p:spPr>
          <a:xfrm>
            <a:off x="5219640" y="4797360"/>
            <a:ext cx="1441440" cy="14414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9"/>
          <a:stretch/>
        </p:blipFill>
        <p:spPr>
          <a:xfrm>
            <a:off x="7451640" y="549360"/>
            <a:ext cx="1435320" cy="14349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0"/>
          <a:stretch/>
        </p:blipFill>
        <p:spPr>
          <a:xfrm>
            <a:off x="5292720" y="2276640"/>
            <a:ext cx="1362240" cy="20620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1"/>
          <a:stretch/>
        </p:blipFill>
        <p:spPr>
          <a:xfrm>
            <a:off x="5580000" y="260280"/>
            <a:ext cx="952560" cy="14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203640" y="476280"/>
            <a:ext cx="1352520" cy="1413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451640" y="549360"/>
            <a:ext cx="1278000" cy="15127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179280" y="692280"/>
            <a:ext cx="2611440" cy="12589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755640" y="2708280"/>
            <a:ext cx="1155600" cy="14446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2771640" y="2708280"/>
            <a:ext cx="1576440" cy="12924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5219640" y="404640"/>
            <a:ext cx="1649520" cy="16495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250920" y="4653000"/>
            <a:ext cx="2300040" cy="15336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8"/>
          <a:stretch/>
        </p:blipFill>
        <p:spPr>
          <a:xfrm>
            <a:off x="5435640" y="4724280"/>
            <a:ext cx="1441440" cy="14414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9"/>
          <a:stretch/>
        </p:blipFill>
        <p:spPr>
          <a:xfrm>
            <a:off x="7451640" y="4653000"/>
            <a:ext cx="1435320" cy="14349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0"/>
          <a:stretch/>
        </p:blipFill>
        <p:spPr>
          <a:xfrm>
            <a:off x="5292720" y="2276640"/>
            <a:ext cx="1362240" cy="20620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1"/>
          <a:stretch/>
        </p:blipFill>
        <p:spPr>
          <a:xfrm>
            <a:off x="3203640" y="4653000"/>
            <a:ext cx="952560" cy="14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916360" y="404640"/>
            <a:ext cx="1352520" cy="1413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11280" y="549360"/>
            <a:ext cx="1278000" cy="15127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5076720" y="476280"/>
            <a:ext cx="2611440" cy="12589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755640" y="2708280"/>
            <a:ext cx="1155600" cy="14446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2771640" y="2708280"/>
            <a:ext cx="1576440" cy="12924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6"/>
          <a:stretch/>
        </p:blipFill>
        <p:spPr>
          <a:xfrm>
            <a:off x="7308720" y="2637000"/>
            <a:ext cx="1649520" cy="16491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7"/>
          <a:stretch/>
        </p:blipFill>
        <p:spPr>
          <a:xfrm>
            <a:off x="250920" y="4653000"/>
            <a:ext cx="2300040" cy="15336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8"/>
          <a:stretch/>
        </p:blipFill>
        <p:spPr>
          <a:xfrm>
            <a:off x="5219640" y="4797360"/>
            <a:ext cx="1441440" cy="14414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9"/>
          <a:stretch/>
        </p:blipFill>
        <p:spPr>
          <a:xfrm>
            <a:off x="3059280" y="4581360"/>
            <a:ext cx="1434960" cy="14353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0"/>
          <a:stretch/>
        </p:blipFill>
        <p:spPr>
          <a:xfrm>
            <a:off x="5292720" y="2276640"/>
            <a:ext cx="1362240" cy="20620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1"/>
          <a:stretch/>
        </p:blipFill>
        <p:spPr>
          <a:xfrm>
            <a:off x="7667640" y="4581360"/>
            <a:ext cx="952560" cy="142416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843280" y="2708280"/>
            <a:ext cx="3308400" cy="3308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042920" y="1125360"/>
            <a:ext cx="734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99"/>
                </a:solidFill>
                <a:latin typeface="Comic Sans MS"/>
              </a:rPr>
              <a:t>El gall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1116000" y="508464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int-Sa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116000" y="476280"/>
            <a:ext cx="69850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l carnaval de los animales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132000" y="2205000"/>
            <a:ext cx="2851200" cy="28512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1332000" y="5300640"/>
            <a:ext cx="6696000" cy="13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¿Qué dicen los animales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over the world, different people think that different animals make different sou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noise does a frog ma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ONG! In France people think it says “coa-coa” and in Argentina “berp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059280" y="2565360"/>
            <a:ext cx="2597040" cy="39337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771640" y="76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99"/>
                </a:solidFill>
                <a:latin typeface="Comic Sans MS"/>
              </a:rPr>
              <a:t>El le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2349360"/>
            <a:ext cx="3600360" cy="1511280"/>
          </a:xfrm>
          <a:prstGeom prst="wedgeRoundRectCallout">
            <a:avLst>
              <a:gd name="adj1" fmla="val -43078"/>
              <a:gd name="adj2" fmla="val 7951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¡grgrgrgrgr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843280" y="2708280"/>
            <a:ext cx="3308400" cy="33084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042920" y="1125360"/>
            <a:ext cx="734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99"/>
                </a:solidFill>
                <a:latin typeface="Comic Sans MS"/>
              </a:rPr>
              <a:t>El gall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55640" y="1773360"/>
            <a:ext cx="2303640" cy="2952720"/>
          </a:xfrm>
          <a:prstGeom prst="wedgeEllipseCallout">
            <a:avLst>
              <a:gd name="adj1" fmla="val 74189"/>
              <a:gd name="adj2" fmla="val -5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50760" y="2655720"/>
            <a:ext cx="218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¡kikirikí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556000" y="191628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771640" y="76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99"/>
                </a:solidFill>
                <a:latin typeface="Comic Sans MS"/>
              </a:rPr>
              <a:t>El cuc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16720" y="907920"/>
            <a:ext cx="2087640" cy="2521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59640" y="162864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¡Cu-cu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547640" y="2565360"/>
            <a:ext cx="3953160" cy="32418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771640" y="76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99"/>
                </a:solidFill>
                <a:latin typeface="Comic Sans MS"/>
              </a:rPr>
              <a:t>El elefan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92720" y="2060640"/>
            <a:ext cx="3672000" cy="1800000"/>
          </a:xfrm>
          <a:prstGeom prst="wedgeEllipseCallout">
            <a:avLst>
              <a:gd name="adj1" fmla="val -40402"/>
              <a:gd name="adj2" fmla="val 940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614920" y="263700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¡prraaaaahhh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916360" y="2421000"/>
            <a:ext cx="2998800" cy="37479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771640" y="76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99"/>
                </a:solidFill>
                <a:latin typeface="Comic Sans MS"/>
              </a:rPr>
              <a:t>El burr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4000" y="1773360"/>
            <a:ext cx="2735280" cy="2160360"/>
          </a:xfrm>
          <a:prstGeom prst="wedgeRoundRectCallout">
            <a:avLst>
              <a:gd name="adj1" fmla="val 54120"/>
              <a:gd name="adj2" fmla="val 7189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11280" y="227664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¡íja!  ¡íja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619280" y="2852640"/>
            <a:ext cx="6356160" cy="30625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771640" y="76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99"/>
                </a:solidFill>
                <a:latin typeface="Comic Sans MS"/>
              </a:rPr>
              <a:t>El pájar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76720" y="1844640"/>
            <a:ext cx="2663640" cy="1297080"/>
          </a:xfrm>
          <a:prstGeom prst="wedgeRectCallout">
            <a:avLst>
              <a:gd name="adj1" fmla="val -40703"/>
              <a:gd name="adj2" fmla="val 1032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19640" y="2133720"/>
            <a:ext cx="23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¡pío pí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276720" y="2924280"/>
            <a:ext cx="2938320" cy="30700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771640" y="76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La gallin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27640" y="1484280"/>
            <a:ext cx="2592360" cy="1800360"/>
          </a:xfrm>
          <a:prstGeom prst="wedgeRoundRectCallout">
            <a:avLst>
              <a:gd name="adj1" fmla="val -65370"/>
              <a:gd name="adj2" fmla="val 8421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¡coc co co coc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771640" y="76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La va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900000" y="2133720"/>
            <a:ext cx="2592360" cy="1366560"/>
          </a:xfrm>
          <a:prstGeom prst="wedgeRoundRectCallout">
            <a:avLst>
              <a:gd name="adj1" fmla="val 75717"/>
              <a:gd name="adj2" fmla="val 109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¡muuu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11640" y="2349360"/>
            <a:ext cx="2873520" cy="33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56000" y="191628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771640" y="76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99"/>
                </a:solidFill>
                <a:latin typeface="Comic Sans MS"/>
              </a:rPr>
              <a:t>El cuc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771640" y="76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La ovej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227640" y="1484280"/>
            <a:ext cx="2592360" cy="1800360"/>
          </a:xfrm>
          <a:prstGeom prst="wedgeRoundRectCallout">
            <a:avLst>
              <a:gd name="adj1" fmla="val -65370"/>
              <a:gd name="adj2" fmla="val 8421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¡beee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3624480" cy="44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771640" y="76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99"/>
                </a:solidFill>
                <a:latin typeface="Comic Sans MS"/>
              </a:rPr>
              <a:t>El perr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627280" y="2492280"/>
            <a:ext cx="3240000" cy="32403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651640" y="1484280"/>
            <a:ext cx="3492360" cy="23763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2000" y="2205000"/>
            <a:ext cx="31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¡guau guau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771640" y="76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99"/>
                </a:solidFill>
                <a:latin typeface="Comic Sans MS"/>
              </a:rPr>
              <a:t>El ga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92360" y="2060640"/>
            <a:ext cx="31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¡miau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995640" y="2781360"/>
            <a:ext cx="2951280" cy="25891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476360" y="1989000"/>
            <a:ext cx="2521080" cy="1871640"/>
          </a:xfrm>
          <a:prstGeom prst="wedgeEllipseCallout">
            <a:avLst>
              <a:gd name="adj1" fmla="val 73930"/>
              <a:gd name="adj2" fmla="val 419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¡mia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1835280" y="1700280"/>
            <a:ext cx="592272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¡A  jugar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9" name=""/>
          <p:cNvSpPr/>
          <p:nvPr/>
        </p:nvSpPr>
        <p:spPr>
          <a:xfrm>
            <a:off x="971640" y="4724280"/>
            <a:ext cx="770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¿Cuál de los animales hace estos sonido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771640" y="76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La va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00000" y="2133720"/>
            <a:ext cx="2592360" cy="1366560"/>
          </a:xfrm>
          <a:prstGeom prst="wedgeRoundRectCallout">
            <a:avLst>
              <a:gd name="adj1" fmla="val 75717"/>
              <a:gd name="adj2" fmla="val 109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¡muuu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211640" y="2349360"/>
            <a:ext cx="2873520" cy="33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547640" y="2565360"/>
            <a:ext cx="3953160" cy="32418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2771640" y="76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99"/>
                </a:solidFill>
                <a:latin typeface="Comic Sans MS"/>
              </a:rPr>
              <a:t>El elefan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92720" y="2060640"/>
            <a:ext cx="3672000" cy="1800000"/>
          </a:xfrm>
          <a:prstGeom prst="wedgeEllipseCallout">
            <a:avLst>
              <a:gd name="adj1" fmla="val -40402"/>
              <a:gd name="adj2" fmla="val 940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614920" y="263700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¡prraaaaahhh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3059280" y="2565360"/>
            <a:ext cx="2597040" cy="39337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2771640" y="76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99"/>
                </a:solidFill>
                <a:latin typeface="Comic Sans MS"/>
              </a:rPr>
              <a:t>El le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076720" y="1628640"/>
            <a:ext cx="3600720" cy="1511280"/>
          </a:xfrm>
          <a:prstGeom prst="wedgeRoundRectCallout">
            <a:avLst>
              <a:gd name="adj1" fmla="val -43078"/>
              <a:gd name="adj2" fmla="val 7951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¡grgrgrgrgr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619280" y="2852640"/>
            <a:ext cx="6356160" cy="30625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771640" y="76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99"/>
                </a:solidFill>
                <a:latin typeface="Comic Sans MS"/>
              </a:rPr>
              <a:t>El pájar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76720" y="1844640"/>
            <a:ext cx="2663640" cy="1297080"/>
          </a:xfrm>
          <a:prstGeom prst="wedgeRectCallout">
            <a:avLst>
              <a:gd name="adj1" fmla="val -40703"/>
              <a:gd name="adj2" fmla="val 1032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19640" y="2133720"/>
            <a:ext cx="23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¡pío pí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843280" y="2708280"/>
            <a:ext cx="3308400" cy="33084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042920" y="1125360"/>
            <a:ext cx="734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99"/>
                </a:solidFill>
                <a:latin typeface="Comic Sans MS"/>
              </a:rPr>
              <a:t>El gall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55640" y="1773360"/>
            <a:ext cx="2303640" cy="2952720"/>
          </a:xfrm>
          <a:prstGeom prst="wedgeEllipseCallout">
            <a:avLst>
              <a:gd name="adj1" fmla="val 74189"/>
              <a:gd name="adj2" fmla="val -5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50760" y="2655720"/>
            <a:ext cx="218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¡kikirikí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2916360" y="2421000"/>
            <a:ext cx="2998800" cy="37479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2771640" y="76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99"/>
                </a:solidFill>
                <a:latin typeface="Comic Sans MS"/>
              </a:rPr>
              <a:t>El burr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24000" y="1773360"/>
            <a:ext cx="2735280" cy="2160360"/>
          </a:xfrm>
          <a:prstGeom prst="wedgeRoundRectCallout">
            <a:avLst>
              <a:gd name="adj1" fmla="val 54120"/>
              <a:gd name="adj2" fmla="val 7189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11280" y="227664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¡íja!  ¡íja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47640" y="2565360"/>
            <a:ext cx="3953160" cy="3241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771640" y="76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99"/>
                </a:solidFill>
                <a:latin typeface="Comic Sans MS"/>
              </a:rPr>
              <a:t>El elefan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556000" y="191628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771640" y="76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99"/>
                </a:solidFill>
                <a:latin typeface="Comic Sans MS"/>
              </a:rPr>
              <a:t>El cuc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516720" y="907920"/>
            <a:ext cx="2087640" cy="2521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659640" y="162864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¡Cu-cu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771640" y="76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99"/>
                </a:solidFill>
                <a:latin typeface="Comic Sans MS"/>
              </a:rPr>
              <a:t>El perr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2627280" y="2492280"/>
            <a:ext cx="3240000" cy="32403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5651640" y="1484280"/>
            <a:ext cx="3492360" cy="23763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012000" y="2205000"/>
            <a:ext cx="31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¡guau guau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8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3276720" y="2924280"/>
            <a:ext cx="2938320" cy="30700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771640" y="76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La gallin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27640" y="1484280"/>
            <a:ext cx="2592360" cy="1800360"/>
          </a:xfrm>
          <a:prstGeom prst="wedgeRoundRectCallout">
            <a:avLst>
              <a:gd name="adj1" fmla="val -65370"/>
              <a:gd name="adj2" fmla="val 8421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¡coc co co coc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771640" y="76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La ovej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227640" y="1484280"/>
            <a:ext cx="2592360" cy="1800360"/>
          </a:xfrm>
          <a:prstGeom prst="wedgeRoundRectCallout">
            <a:avLst>
              <a:gd name="adj1" fmla="val -65370"/>
              <a:gd name="adj2" fmla="val 8421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¡beee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3624480" cy="44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2916360" y="404640"/>
            <a:ext cx="1352520" cy="14130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611280" y="549360"/>
            <a:ext cx="1278000" cy="15127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5076720" y="476280"/>
            <a:ext cx="2611440" cy="12589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755640" y="2708280"/>
            <a:ext cx="1155600" cy="14446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5"/>
          <a:stretch/>
        </p:blipFill>
        <p:spPr>
          <a:xfrm>
            <a:off x="2771640" y="2708280"/>
            <a:ext cx="1576440" cy="12924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6"/>
          <a:stretch/>
        </p:blipFill>
        <p:spPr>
          <a:xfrm>
            <a:off x="7308720" y="2637000"/>
            <a:ext cx="1649520" cy="16491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7"/>
          <a:stretch/>
        </p:blipFill>
        <p:spPr>
          <a:xfrm>
            <a:off x="250920" y="4653000"/>
            <a:ext cx="2300040" cy="1533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8"/>
          <a:stretch/>
        </p:blipFill>
        <p:spPr>
          <a:xfrm>
            <a:off x="5219640" y="4797360"/>
            <a:ext cx="1441440" cy="144144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9"/>
          <a:stretch/>
        </p:blipFill>
        <p:spPr>
          <a:xfrm>
            <a:off x="3059280" y="4581360"/>
            <a:ext cx="1434960" cy="14353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10"/>
          <a:stretch/>
        </p:blipFill>
        <p:spPr>
          <a:xfrm>
            <a:off x="5292720" y="2276640"/>
            <a:ext cx="1362240" cy="206208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11"/>
          <a:stretch/>
        </p:blipFill>
        <p:spPr>
          <a:xfrm>
            <a:off x="7667640" y="4581360"/>
            <a:ext cx="952560" cy="14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916360" y="2421000"/>
            <a:ext cx="2998800" cy="37479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771640" y="76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99"/>
                </a:solidFill>
                <a:latin typeface="Comic Sans MS"/>
              </a:rPr>
              <a:t>El burr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619280" y="2852640"/>
            <a:ext cx="6356160" cy="30625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771640" y="76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99"/>
                </a:solidFill>
                <a:latin typeface="Comic Sans MS"/>
              </a:rPr>
              <a:t>El pájar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2924280"/>
            <a:ext cx="2938320" cy="3070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771640" y="76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La gallin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771640" y="76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La va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211640" y="2349360"/>
            <a:ext cx="2873520" cy="33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771640" y="76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La ovej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3624480" cy="44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9T20:47:28Z</dcterms:created>
  <dc:creator>Lisa Stevens</dc:creator>
  <dc:description/>
  <dc:language>en-US</dc:language>
  <cp:lastModifiedBy>Owner1</cp:lastModifiedBy>
  <dcterms:modified xsi:type="dcterms:W3CDTF">2008-07-10T16:10:48Z</dcterms:modified>
  <cp:revision>4</cp:revision>
  <dc:subject/>
  <dc:title>Slide 1</dc:title>
</cp:coreProperties>
</file>